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EFA438A-828C-4072-ABF2-697D45835E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71EA7D-3C7F-4AA0-898F-DB0469D9B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3C017D-9391-46C6-9452-79D8AD9B8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68C-17A3-4D96-B80F-481EE4B2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ED5-333B-47D5-82FC-0B4902C1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B7D-9362-416E-A29E-F667B1E4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527-F74D-4869-93D3-1C27E6B9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8A7-6F35-4486-AE6F-11CB744F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E22-77F0-448D-8333-E1BC3341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A5F-EBAF-4F45-AFD8-753EF046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B41-056F-4966-A5F9-05D9E45C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F6E-0C30-42AD-91DD-46FB36C2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461-BDC5-4177-B6A8-5F98CF20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E9E-C755-4A68-9001-CD92D791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3B3-12CC-42D5-A166-992F07C1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5620A4-BE6F-4F5D-9B51-3DA1D1F1F318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73F8196-240F-4F7F-84BB-CE4350ABEE3E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52280" y="685800"/>
            <a:ext cx="29718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honics (Consonant Digraphs th, wh, sh, ch (tch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tegorize your spelling words using the above consonant digraphs and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the digraph in each word. (ex. th;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k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ictionary Skill (Parts of a dictionary)  A-K are in the beginning, L-S are in the middle, and T-Z are at the end.  Using a dictionary, write 4 words found in the beginning, 4 words found in the middle, and 4 words that are found at the end of a dictionary.  List each word under the correct category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itials________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ammar (Proper Nou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proper/special noun is a word that names a person, place, or thing and begins with a capital letter.  Write 7 sentences that have proper nouns in them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Underlin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he proper nouns in each sent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ex.  I’m going to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Toys R U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o buy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Wi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)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scene.  Draw a picture.  Include in that picture a place (setting), people (characters), and something that is happening (action/events).  After you have drawn your scene, write about the scene.  Include in your writing where the scene takes place, who are the characters in the scene and what is hap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ing in th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Chinatown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itials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0:53:53Z</dcterms:created>
  <dc:creator> </dc:creator>
  <dc:description/>
  <dc:language>en-US</dc:language>
  <cp:lastModifiedBy> </cp:lastModifiedBy>
  <cp:lastPrinted>2009-12-03T11:38:05Z</cp:lastPrinted>
  <dcterms:modified xsi:type="dcterms:W3CDTF">2010-08-11T00:50:39Z</dcterms:modified>
  <cp:revision>26</cp:revision>
  <dc:subject/>
  <dc:title>Slide 1</dc:title>
</cp:coreProperties>
</file>